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2.png" ContentType="image/png"/>
  <Override PartName="/ppt/media/image7.wmf" ContentType="image/x-wmf"/>
  <Override PartName="/ppt/media/image17.png" ContentType="image/png"/>
  <Override PartName="/ppt/media/image16.jpeg" ContentType="image/jpeg"/>
  <Override PartName="/ppt/media/image14.png" ContentType="image/png"/>
  <Override PartName="/ppt/media/image15.wmf" ContentType="image/x-wmf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0.wmf" ContentType="image/x-wmf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14519-0605-48F2-AA6F-9034DC6AB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FEB57-0431-487D-B1DB-C6F67CD4A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521E-A3ED-4172-B0C2-04DD48606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0EC4-926E-4287-BE2D-9197A5E2D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7BD0-35EC-4B66-876B-04BA3CBA6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5C98-7982-4373-8AD1-D6C1EE0B6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224F-315F-44AB-A3BA-ACFB8168F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BCD6-5FD1-4202-9C7D-51C3583D9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9EDF-7711-4A44-AC4C-28E6CB998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D25E-AEA2-43C2-8786-8B8FF413E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D99B-4CE2-4053-BC03-7F2E5CBD8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4136-4E6C-4DC6-A73E-FF8B57EA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AECE-0598-4ED0-B891-7F2CE5F8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FFAB-9D63-46D7-BD7C-BE6D00A9C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17090-E156-450A-9101-B1E385A00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slide" Target="slide2.xml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slide" Target="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8.png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8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art_museum.jpg"/>
          <p:cNvPicPr/>
          <p:nvPr/>
        </p:nvPicPr>
        <p:blipFill>
          <a:blip r:embed="rId2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4" descr=""/>
          <p:cNvPicPr/>
          <p:nvPr/>
        </p:nvPicPr>
        <p:blipFill>
          <a:blip r:embed="rId3"/>
          <a:stretch/>
        </p:blipFill>
        <p:spPr>
          <a:xfrm>
            <a:off x="2816280" y="2273400"/>
            <a:ext cx="3517920" cy="476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lick_Lensington-SUIT.gif"/>
          <p:cNvPicPr/>
          <p:nvPr/>
        </p:nvPicPr>
        <p:blipFill>
          <a:blip r:embed="rId4"/>
          <a:stretch/>
        </p:blipFill>
        <p:spPr>
          <a:xfrm>
            <a:off x="2209680" y="4273560"/>
            <a:ext cx="60984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52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c8c93"/>
                  </a:solidFill>
                  <a:latin typeface="Arial"/>
                </a:rPr>
                <a:t>Art of Afric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Picture 3" descr="C:\Documents and Settings\cstocke\Local Settings\Temporary Internet Files\Content.IE5\CHEN8LIR\MCDD01742_0000[1].wmf"/>
          <p:cNvPicPr/>
          <p:nvPr/>
        </p:nvPicPr>
        <p:blipFill>
          <a:blip r:embed="rId3"/>
          <a:stretch/>
        </p:blipFill>
        <p:spPr>
          <a:xfrm>
            <a:off x="457200" y="1295280"/>
            <a:ext cx="3809880" cy="4724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9" descr="http://www.tutorio.com/media/photoshop/20050102-note-paper.gif"/>
          <p:cNvPicPr/>
          <p:nvPr/>
        </p:nvPicPr>
        <p:blipFill>
          <a:blip r:embed="rId4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58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3"/>
            <p:cNvSpPr/>
            <p:nvPr/>
          </p:nvSpPr>
          <p:spPr>
            <a:xfrm>
              <a:off x="1675800" y="6323760"/>
              <a:ext cx="18288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61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6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64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Culture of Middle Eas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67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69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72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4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Picture 2" descr="C:\Documents and Settings\cstocke\Local Settings\Temporary Internet Files\Content.IE5\CHEN8LIR\MCj03978360000[1].wmf"/>
          <p:cNvPicPr/>
          <p:nvPr/>
        </p:nvPicPr>
        <p:blipFill>
          <a:blip r:embed="rId5"/>
          <a:stretch/>
        </p:blipFill>
        <p:spPr>
          <a:xfrm rot="16200000">
            <a:off x="181800" y="1951920"/>
            <a:ext cx="44308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76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Culture of Central As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79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81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84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Picture 2" descr="C:\Documents and Settings\cstocke\Local Settings\Temporary Internet Files\Content.IE5\CHEN8LIR\MCj03978360000[1].wmf"/>
          <p:cNvPicPr/>
          <p:nvPr/>
        </p:nvPicPr>
        <p:blipFill>
          <a:blip r:embed="rId4"/>
          <a:stretch/>
        </p:blipFill>
        <p:spPr>
          <a:xfrm rot="16200000">
            <a:off x="181800" y="1951920"/>
            <a:ext cx="44308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Rectangle 2"/>
          <p:cNvGrpSpPr/>
          <p:nvPr/>
        </p:nvGrpSpPr>
        <p:grpSpPr>
          <a:xfrm>
            <a:off x="2736720" y="378000"/>
            <a:ext cx="4816440" cy="774360"/>
            <a:chOff x="2736720" y="378000"/>
            <a:chExt cx="4816440" cy="774360"/>
          </a:xfrm>
        </p:grpSpPr>
        <p:pic>
          <p:nvPicPr>
            <p:cNvPr id="88" name="Rectangle 2" descr=""/>
            <p:cNvPicPr/>
            <p:nvPr/>
          </p:nvPicPr>
          <p:blipFill>
            <a:blip r:embed="rId2"/>
            <a:stretch/>
          </p:blipFill>
          <p:spPr>
            <a:xfrm>
              <a:off x="2736720" y="378000"/>
              <a:ext cx="481644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2743200" y="380880"/>
              <a:ext cx="48006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Geography of South Ame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93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96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8" name="Picture 4" descr="C:\Documents and Settings\cstocke\Local Settings\Temporary Internet Files\Content.IE5\85YZK9Q3\MCSO01874_0000[1].wmf"/>
          <p:cNvPicPr/>
          <p:nvPr/>
        </p:nvPicPr>
        <p:blipFill>
          <a:blip r:embed="rId4"/>
          <a:stretch/>
        </p:blipFill>
        <p:spPr>
          <a:xfrm>
            <a:off x="457200" y="1371600"/>
            <a:ext cx="3738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Rectangle 2"/>
          <p:cNvGrpSpPr/>
          <p:nvPr/>
        </p:nvGrpSpPr>
        <p:grpSpPr>
          <a:xfrm>
            <a:off x="2736720" y="378000"/>
            <a:ext cx="5042160" cy="774360"/>
            <a:chOff x="2736720" y="378000"/>
            <a:chExt cx="5042160" cy="774360"/>
          </a:xfrm>
        </p:grpSpPr>
        <p:pic>
          <p:nvPicPr>
            <p:cNvPr id="100" name="Rectangle 2" descr=""/>
            <p:cNvPicPr/>
            <p:nvPr/>
          </p:nvPicPr>
          <p:blipFill>
            <a:blip r:embed="rId1"/>
            <a:stretch/>
          </p:blipFill>
          <p:spPr>
            <a:xfrm>
              <a:off x="2736720" y="378000"/>
              <a:ext cx="50421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2743200" y="380880"/>
              <a:ext cx="50292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Science of North Ame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105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37"/>
          <p:cNvGrpSpPr/>
          <p:nvPr/>
        </p:nvGrpSpPr>
        <p:grpSpPr>
          <a:xfrm>
            <a:off x="5791320" y="6019920"/>
            <a:ext cx="2133360" cy="761760"/>
            <a:chOff x="5791320" y="6019920"/>
            <a:chExt cx="2133360" cy="761760"/>
          </a:xfrm>
        </p:grpSpPr>
        <p:sp>
          <p:nvSpPr>
            <p:cNvPr id="108" name="AutoShape 11"/>
            <p:cNvSpPr/>
            <p:nvPr/>
          </p:nvSpPr>
          <p:spPr>
            <a:xfrm>
              <a:off x="5791320" y="6019920"/>
              <a:ext cx="2133360" cy="761760"/>
            </a:xfrm>
            <a:prstGeom prst="rightArrow">
              <a:avLst>
                <a:gd name="adj1" fmla="val 50000"/>
                <a:gd name="adj2" fmla="val 68199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4"/>
            <p:cNvSpPr/>
            <p:nvPr/>
          </p:nvSpPr>
          <p:spPr>
            <a:xfrm>
              <a:off x="5867280" y="6324480"/>
              <a:ext cx="1676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" name="Picture 25" descr="C:\Documents and Settings\cstocke\Local Settings\Temporary Internet Files\Content.IE5\CHEN8LIR\MCj03971100000[1].wmf"/>
          <p:cNvPicPr/>
          <p:nvPr/>
        </p:nvPicPr>
        <p:blipFill>
          <a:blip r:embed="rId3"/>
          <a:stretch/>
        </p:blipFill>
        <p:spPr>
          <a:xfrm rot="16200000">
            <a:off x="207720" y="1848960"/>
            <a:ext cx="45752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Rectangle 2"/>
          <p:cNvGrpSpPr/>
          <p:nvPr/>
        </p:nvGrpSpPr>
        <p:grpSpPr>
          <a:xfrm>
            <a:off x="2736720" y="378000"/>
            <a:ext cx="4206960" cy="774360"/>
            <a:chOff x="2736720" y="378000"/>
            <a:chExt cx="4206960" cy="774360"/>
          </a:xfrm>
        </p:grpSpPr>
        <p:pic>
          <p:nvPicPr>
            <p:cNvPr id="112" name="Rectangle 2" descr=""/>
            <p:cNvPicPr/>
            <p:nvPr/>
          </p:nvPicPr>
          <p:blipFill>
            <a:blip r:embed="rId1"/>
            <a:stretch/>
          </p:blipFill>
          <p:spPr>
            <a:xfrm>
              <a:off x="2736720" y="378000"/>
              <a:ext cx="42069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Science of Ocean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4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117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9" name="Picture 25" descr="C:\Documents and Settings\cstocke\Local Settings\Temporary Internet Files\Content.IE5\CHEN8LIR\MCj03971100000[1].wmf"/>
          <p:cNvPicPr/>
          <p:nvPr/>
        </p:nvPicPr>
        <p:blipFill>
          <a:blip r:embed="rId3"/>
          <a:stretch/>
        </p:blipFill>
        <p:spPr>
          <a:xfrm rot="16200000">
            <a:off x="207720" y="1848960"/>
            <a:ext cx="45752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BOOKS.jpg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9159840"/>
          </a:xfrm>
          <a:prstGeom prst="rect">
            <a:avLst/>
          </a:prstGeom>
          <a:ln w="0">
            <a:noFill/>
          </a:ln>
        </p:spPr>
      </p:pic>
      <p:sp>
        <p:nvSpPr>
          <p:cNvPr id="121" name="TextBox 2"/>
          <p:cNvSpPr/>
          <p:nvPr/>
        </p:nvSpPr>
        <p:spPr>
          <a:xfrm>
            <a:off x="914400" y="304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Bibli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762120" y="1523880"/>
            <a:ext cx="7696080" cy="739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8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1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3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5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6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7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8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9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0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2057400" y="990720"/>
            <a:ext cx="5543640" cy="2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8T17:32:06Z</dcterms:created>
  <dc:creator>Candy Stocker</dc:creator>
  <dc:description/>
  <dc:language>en-US</dc:language>
  <cp:lastModifiedBy> </cp:lastModifiedBy>
  <dcterms:modified xsi:type="dcterms:W3CDTF">2009-01-28T19:26:26Z</dcterms:modified>
  <cp:revision>118</cp:revision>
  <dc:subject/>
  <dc:title>Museum of World Stuff</dc:title>
</cp:coreProperties>
</file>